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C06A-E8F7-4A83-875C-BAFEF4FF56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E4F7-BCEE-466F-9CAF-C9C79E9E01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766-5D82-4BE0-8A94-CB12D16AA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 of all a bit about the background to the projec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Y SPT 11-14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EB6-CCEE-4F20-A337-217C19505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43160" y="-6480"/>
            <a:ext cx="7800480" cy="6864120"/>
            <a:chOff x="1343160" y="-6480"/>
            <a:chExt cx="7800480" cy="686412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3315600" y="1728720"/>
              <a:ext cx="4462560" cy="45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343160" y="1334880"/>
              <a:ext cx="22788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3"/>
            <a:stretch/>
          </p:blipFill>
          <p:spPr>
            <a:xfrm>
              <a:off x="8422920" y="-6480"/>
              <a:ext cx="720720" cy="686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6"/>
          <p:cNvSpPr/>
          <p:nvPr/>
        </p:nvSpPr>
        <p:spPr>
          <a:xfrm>
            <a:off x="7104240" y="5410080"/>
            <a:ext cx="1195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800280"/>
            <a:ext cx="813780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Explaining physical phenomena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practic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mall groups, come up with the best explanation that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akes an ‘explanation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What does it mean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ket of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logic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 of a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nessing wate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in an electric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ye as a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 the expressions come from? Are they useful or harm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b400"/>
                </a:solidFill>
                <a:latin typeface="Arial"/>
              </a:rPr>
              <a:t>SASP Physics day 2</a:t>
            </a:r>
            <a:endParaRPr b="1" lang="en-US" sz="36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13372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damentals in Physic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hysic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4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211880" cy="378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eciate the scope of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the way that physical phenomena are measured and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the importance of the ‘Big Picture’ to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roportionality and index notation in teaching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078440" y="7300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What is Physics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to answer the question in your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forming more than one answer – in different contexts and for different a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Fermi Question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ed to provide a ‘no-stakes’ environment for mathematical risk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are encouraged to make assumptions and informed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assumptions (and their justification, if appropriate) as you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A Fermi ques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out how many jelly babies it would take to fill Wembley Sta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Space and Tim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range of space and time that humans can directly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strate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b400"/>
                </a:solidFill>
                <a:latin typeface="Arial"/>
              </a:rPr>
              <a:t>C:\Documents and Settings\Neil.Adams\My Documents\Downloads\fantastictrip-091230101838-phpapp01.pps</a:t>
            </a:r>
            <a:endParaRPr b="1" lang="en-US" sz="1600" spc="-1" strike="noStrike">
              <a:solidFill>
                <a:srgbClr val="ffb400"/>
              </a:solidFill>
              <a:latin typeface="Arial"/>
            </a:endParaRPr>
          </a:p>
        </p:txBody>
      </p:sp>
      <p:graphicFrame>
        <p:nvGraphicFramePr>
          <p:cNvPr id="68" name="Rectangle 5"/>
          <p:cNvGraphicFramePr/>
          <p:nvPr/>
        </p:nvGraphicFramePr>
        <p:xfrm>
          <a:off x="1892160" y="3998880"/>
          <a:ext cx="876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3998880"/>
                    <a:ext cx="876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Competition tim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as many units as you can for time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nus points for interesting facts about the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3:22Z</dcterms:created>
  <dc:creator/>
  <dc:description/>
  <cp:keywords/>
  <dc:language>en-US</dc:language>
  <cp:lastModifiedBy>Neil.Adams</cp:lastModifiedBy>
  <dcterms:modified xsi:type="dcterms:W3CDTF">2010-07-13T16:54:04Z</dcterms:modified>
  <cp:revision>407</cp:revision>
  <dc:subject/>
  <dc:title>PowerPoint Presentation</dc:title>
</cp:coreProperties>
</file>